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822-0244-416E-A3CD-31438275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80E-178B-47BD-A313-EE65AD34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2FC-6079-4700-9B60-B31AC106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39F-4A3A-447C-A92F-D1635A5D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72F9-44D5-4B0B-86BA-1ED04BB2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36B-609B-4AA0-AE08-A95FD483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4B9-3CEF-4E20-B587-0FBAD777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193-9FE6-44A9-8309-C000AE03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1C7-523E-4E91-BB3F-08EF0BB8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0AF-4AE5-452F-B994-4EE7B716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07C-72CB-4A7E-9E82-490D767F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B31-68C7-44D7-BC42-EE02B4E4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BC20-0CC5-4B60-8F9D-3197BE212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-up:  MSA Review Day 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volume of the prisms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tangular prism where l=5, w=3, h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angular prism where l=7, w=2, h=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square numbers and find their square roots in order to find missing dimensions of a right tri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676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Students will square numbers and find their square roots in order to find missing dimensions of a right triangl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square a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 3x3  look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                        look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square numbers and find their square roots in order to find missing dimensions of a right tri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squaring the following numb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bjectiv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square numbers and find their square roots in order to find missing dimensions of a right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you can square a number, lets talk about finding the square root of a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cal Sign (Square root symbol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172200" y="2960640"/>
          <a:ext cx="9907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960640"/>
                    <a:ext cx="9907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61640" y="4343400"/>
            <a:ext cx="83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dical sign means to find what number can be squared to make the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82720" y="5280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76520" y="5257800"/>
                <a:ext cx="609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797920" y="524340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 what number times itself equals 9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bjectiv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square numbers and find their square roots in order to find missing dimensions of a right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600200" y="3000240"/>
                <a:ext cx="685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822240" y="383688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600200" y="3886200"/>
                <a:ext cx="7621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884160" y="467532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600200" y="4724280"/>
                <a:ext cx="1066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bjectiv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square numbers and find their square roots in order to find missing dimensions of a right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ll numbers have a perfect square root.  For these, you will need to round to the nearest whole number (or place value indicat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63600" y="4219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752480" y="4495680"/>
                <a:ext cx="7621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787840" y="4503600"/>
            <a:ext cx="609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x 4 = 16 and 5 x 5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24 is between 16 and 2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know the square root will be between 4 and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24 is closer to 25, we will round the square root to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bjectiv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square numbers and find their square roots in order to find missing dimensions of a right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alone or with a partner, complete Textbook pg. 579 problems 3-2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pg. 145 1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7:51:15Z</dcterms:created>
  <dc:creator>ccps</dc:creator>
  <dc:description/>
  <dc:language>en-US</dc:language>
  <cp:lastModifiedBy>deanne elizabeth mcgrath</cp:lastModifiedBy>
  <dcterms:modified xsi:type="dcterms:W3CDTF">2011-02-24T13:22:06Z</dcterms:modified>
  <cp:revision>6</cp:revision>
  <dc:subject/>
  <dc:title>Objective 11.1: To calculate the square roots of perfect squares.</dc:title>
</cp:coreProperties>
</file>